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BF42-9CFA-4B27-8B8F-D35C965D5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B65A-8585-4501-A680-16B4E9BE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F749-1BE6-4AB9-8184-24D76536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9CBF-9045-41C9-BF67-059CEDF30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4333-1437-4FFD-A226-9B38BD6B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644D-2E97-443D-BF32-AE6DB4F7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6084-CCB8-4F08-B561-B906580D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D1CF-E812-412E-9967-614791A6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CC6F-5380-4DEA-B5DD-D9EB9810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A1FD-E908-498E-9DC7-F9F284A3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2A0D-C525-43E0-8D2C-3AFFF308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C394-1357-4EE8-B359-145EFE8E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137E2-3372-4E72-95DF-5FA2793FC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ient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 down to meet you, told me you're sor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don't know how lovely you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me to find you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you I love you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you I set you a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me your secre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sk me your ques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, let's go back to the 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ning in circl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ing up tai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ing for science a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body said it was eas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's such a shame for us to par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body said it was eas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ne ever said it would be this h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'll take you back to the 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've been just guess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numbers and figur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ling the puzzles a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of scien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 and progres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speak as loud as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them you know 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 back and find 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, in a rush to the 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ning in circl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sing your tai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'll take you back as you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body said it was eas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, it's such a shame for us to par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body said it was eas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ne ever said it would be so h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let's go back to the 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8:32:32Z</dcterms:created>
  <dc:creator/>
  <dc:description/>
  <dc:language>en-US</dc:language>
  <cp:lastModifiedBy/>
  <dcterms:modified xsi:type="dcterms:W3CDTF">2009-04-16T18:32:35Z</dcterms:modified>
  <cp:revision>2</cp:revision>
  <dc:subject/>
  <dc:title/>
</cp:coreProperties>
</file>